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DDB-37B1-4547-A63B-D0969D17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C6E-DCDC-440E-9DB9-EC1A00C7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469-7CFC-4842-A7ED-8721B0E8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97D-F603-4B65-AC0F-DDE01347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862A-81B4-4804-8BA2-8F073DEA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B6BB-DCF9-457B-8F26-512EB760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32B4-A07A-4CB9-96DD-53F57BAA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0FA1-E35B-4998-8A1D-40BC2CF1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8F17-136E-44C5-923F-E42A61E5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8256-8061-4DE7-BECF-AEA6C6D2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094A-5D68-4278-A866-7F39CE06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DE3-76C6-4CB4-B860-80956FBB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7AB2-C29D-4F3A-ADED-3A9260C5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3064-B433-4A64-8EA1-56B9B09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064F-C9D2-4B55-AAC2-AD80A157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4C83-A7CF-4E4D-AC78-35D9F6A4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40ED-C7B7-4FF0-9C15-5E970536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6DE-C124-4E85-B94F-C83C1C25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087-2757-4F4C-9386-D1C85DEA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136-148D-4A84-803C-8F764161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F0D-339B-4028-BFFE-671C005E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4B0-E0DD-4413-AE4A-B9AF2D57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358-D25B-476C-B28A-8F210D07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253-8DB8-464B-A042-A0CA08E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DB8B-669A-4269-9E7B-CD304F903FD1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0327-64DE-4AAB-9F81-2F7CC28E385A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39160" cy="36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Warm-up:  Construct the following triangles…</a:t>
            </a:r>
            <a:br>
              <a:rPr sz="5200"/>
            </a:b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1.  2 inch side, 1 inch side, 82 degree angle.</a:t>
            </a:r>
            <a:br>
              <a:rPr sz="5200"/>
            </a:b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2.  34 degree angle, 62 degree angle, 8 cm. Line. 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596880"/>
            <a:ext cx="81151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Objective:  Students will use the appropriate tools to construct triangles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886040"/>
            <a:ext cx="78487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lete the practice worksheet and compare results with others at your table.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rly finishers, on the back of your paper, create your own criteria for additional triangles and construct.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596520"/>
            <a:ext cx="78105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EXIT TICKET TIME!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3124080"/>
            <a:ext cx="795024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omework:  BCR Workshee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3:45:16Z</dcterms:created>
  <dc:creator>Brian McGrath</dc:creator>
  <dc:description/>
  <dc:language>en-US</dc:language>
  <cp:lastModifiedBy>deanne elizabeth mcgrath</cp:lastModifiedBy>
  <dcterms:modified xsi:type="dcterms:W3CDTF">2011-02-09T13:30:42Z</dcterms:modified>
  <cp:revision>2</cp:revision>
  <dc:subject/>
  <dc:title>Warm-up:  Construct the following triangles…  1.  2 inch side, 1 inch side, 82 degree angle.  2.  34 degree angle, 62 degree angle, 8 cm. Line. </dc:title>
</cp:coreProperties>
</file>